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427C-9510-4C40-91B3-42DF2E99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10D9-71CE-4046-9F3E-95660526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355-1497-43DC-88ED-B7460A7E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5FF-9206-46F0-B450-2C75A5DB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EFE-233C-496E-B426-86D8AF4A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F8D-99FE-460B-AC6B-25FA337C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D14D-D889-474A-9FD1-CE2CC6F5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E2D4-5BC3-4706-8D50-AA20A540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947A-EC45-4B4A-B1EA-CE2A7EBC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1C07-2790-4438-B857-B23EE6E2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04C-86F5-44AB-AA5B-0173624E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7E3-40DA-4CD1-A9AA-8EFBF1FC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B37F-092B-4198-B098-7184E7A93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71640" y="2133720"/>
            <a:ext cx="705636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гибридное скрещивание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тий закон Менделя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476360" y="765000"/>
            <a:ext cx="5040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539640" y="4292640"/>
            <a:ext cx="770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ин из основных законов генетик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разработал учитель химии и биологии МКОУ Лебединская СОШ Гюлахмедов Мирзабег Гюло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нежская область Богучарский р-он с. Лебед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3040" y="411120"/>
            <a:ext cx="8213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скрещивания были взя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жёлтыми гладки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зелёными морщинисты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95280" y="333360"/>
            <a:ext cx="8534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рещивание по двум парам признак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домина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рецесс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.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бриды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емена гибридов первого поколения оказались все желтые гладк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12000" y="2205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6516720" y="2205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2843280" y="2133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203640" y="2133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6012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й закон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ж.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 Ab  aB  ab           AB  Ab  aB 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H="1">
            <a:off x="1907640" y="170028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411280" y="17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771640" y="1773360"/>
            <a:ext cx="287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2843280" y="1700280"/>
            <a:ext cx="863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57964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6300360" y="1773360"/>
            <a:ext cx="7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6516720" y="1773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6659640" y="1700280"/>
            <a:ext cx="1009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3500280"/>
          <a:ext cx="6696000" cy="3168720"/>
        </p:xfrm>
        <a:graphic>
          <a:graphicData uri="http://schemas.openxmlformats.org/drawingml/2006/table">
            <a:tbl>
              <a:tblPr/>
              <a:tblGrid>
                <a:gridCol w="1674720"/>
                <a:gridCol w="1673280"/>
                <a:gridCol w="1674720"/>
                <a:gridCol w="16732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0"/>
          <p:cNvSpPr/>
          <p:nvPr/>
        </p:nvSpPr>
        <p:spPr>
          <a:xfrm>
            <a:off x="900000" y="450864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1"/>
          <p:cNvSpPr/>
          <p:nvPr/>
        </p:nvSpPr>
        <p:spPr>
          <a:xfrm>
            <a:off x="900000" y="3716280"/>
            <a:ext cx="7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2"/>
          <p:cNvSpPr/>
          <p:nvPr/>
        </p:nvSpPr>
        <p:spPr>
          <a:xfrm>
            <a:off x="90000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900000" y="587700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4"/>
          <p:cNvSpPr/>
          <p:nvPr/>
        </p:nvSpPr>
        <p:spPr>
          <a:xfrm>
            <a:off x="2196360" y="3068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5"/>
          <p:cNvSpPr/>
          <p:nvPr/>
        </p:nvSpPr>
        <p:spPr>
          <a:xfrm>
            <a:off x="3853080" y="306864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6"/>
          <p:cNvSpPr/>
          <p:nvPr/>
        </p:nvSpPr>
        <p:spPr>
          <a:xfrm>
            <a:off x="5221800" y="3068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7"/>
          <p:cNvSpPr/>
          <p:nvPr/>
        </p:nvSpPr>
        <p:spPr>
          <a:xfrm>
            <a:off x="6806160" y="306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0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й ЗАКОН МЕНДЕ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ждая пара контрастных признаков наследуются независимо друг от друга в ряду поколений; в результате среди гибридов второго поколения появляются потомки с новыми комбинациями признаков в соотношении 9: 3: 3 :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АЛИЗИРУЮЩЕЕ СКРЕЩ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 х а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аметы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 А а 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00%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аметы    А а а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аа (1 :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5:40:37Z</dcterms:created>
  <dc:creator>ДОМ</dc:creator>
  <dc:description/>
  <dc:language>en-US</dc:language>
  <cp:lastModifiedBy>Василий</cp:lastModifiedBy>
  <dcterms:modified xsi:type="dcterms:W3CDTF">2012-01-25T14:45:10Z</dcterms:modified>
  <cp:revision>9</cp:revision>
  <dc:subject/>
  <dc:title>                    </dc:title>
</cp:coreProperties>
</file>